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53D75A5-A486-4E63-8284-DF0BBF869B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82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44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12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5D9D8F5-D87E-46D3-89ED-A7004AFD0ADC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44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9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5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6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6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7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175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94720" y="4871880"/>
            <a:ext cx="3405960" cy="636840"/>
            <a:chOff x="2394720" y="4871880"/>
            <a:chExt cx="3405960" cy="636840"/>
          </a:xfrm>
        </p:grpSpPr>
        <p:sp>
          <p:nvSpPr>
            <p:cNvPr id="178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965480" y="4213080"/>
            <a:ext cx="1310040" cy="586080"/>
            <a:chOff x="4965480" y="4213080"/>
            <a:chExt cx="1310040" cy="586080"/>
          </a:xfrm>
        </p:grpSpPr>
        <p:sp>
          <p:nvSpPr>
            <p:cNvPr id="181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654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184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3460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221720" y="3835440"/>
            <a:ext cx="748800" cy="561960"/>
            <a:chOff x="4221720" y="3835440"/>
            <a:chExt cx="748800" cy="561960"/>
          </a:xfrm>
        </p:grpSpPr>
        <p:sp>
          <p:nvSpPr>
            <p:cNvPr id="187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2172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15280" y="3811680"/>
            <a:ext cx="1942200" cy="463320"/>
            <a:chOff x="2015280" y="3811680"/>
            <a:chExt cx="1942200" cy="463320"/>
          </a:xfrm>
        </p:grpSpPr>
        <p:sp>
          <p:nvSpPr>
            <p:cNvPr id="190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52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9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0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1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85960" y="2263680"/>
            <a:ext cx="180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9548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94440" y="2287440"/>
            <a:ext cx="144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275000" y="2278080"/>
            <a:ext cx="1800" cy="16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0032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332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23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ja xs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te esitus, rdf j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8080" y="372960"/>
            <a:ext cx="7770960" cy="317520"/>
            <a:chOff x="838080" y="372960"/>
            <a:chExt cx="7770960" cy="317520"/>
          </a:xfrm>
        </p:grpSpPr>
        <p:sp>
          <p:nvSpPr>
            <p:cNvPr id="5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07600" y="37296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245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4728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132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3270240"/>
            <a:ext cx="1447920" cy="77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96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madus,  ressurss,  objekt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ressurss, objek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29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372960"/>
            <a:ext cx="7770960" cy="317520"/>
            <a:chOff x="838080" y="372960"/>
            <a:chExt cx="7770960" cy="317520"/>
          </a:xfrm>
        </p:grpSpPr>
        <p:sp>
          <p:nvSpPr>
            <p:cNvPr id="6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07600" y="37296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66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69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72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75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78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1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4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7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3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66680" y="4030200"/>
            <a:ext cx="838440" cy="1311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192480" y="3497400"/>
            <a:ext cx="39672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573000"/>
            <a:ext cx="38124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629400" y="2354400"/>
            <a:ext cx="38088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011640" y="2354400"/>
            <a:ext cx="16812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125440" y="2277720"/>
            <a:ext cx="1681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95480" y="2354040"/>
            <a:ext cx="180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2277720"/>
            <a:ext cx="3049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648320" y="4640400"/>
            <a:ext cx="144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5478120"/>
            <a:ext cx="1440" cy="168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21480" y="5334120"/>
            <a:ext cx="85392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09480" y="2277720"/>
            <a:ext cx="609840" cy="6253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3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H="1">
            <a:off x="2660760" y="1905120"/>
            <a:ext cx="6984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69680" y="3276720"/>
            <a:ext cx="546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025960" y="3352680"/>
            <a:ext cx="1620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116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42992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344760" y="2583000"/>
            <a:ext cx="3292560" cy="1387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2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7560" indent="-275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31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tiny serverit näiten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lambda.ee/images/8/89/Itsissejuhatus_tiny.zi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131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cgi näiteid tiny serveri pea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sh?as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adder?2&amp;3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py?a=2&amp;b=1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6640" y="374760"/>
            <a:ext cx="7769160" cy="312480"/>
            <a:chOff x="836640" y="374760"/>
            <a:chExt cx="7769160" cy="312480"/>
          </a:xfrm>
        </p:grpSpPr>
        <p:sp>
          <p:nvSpPr>
            <p:cNvPr id="136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Kust lugeda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metlikud standardid: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w3.org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4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374760"/>
            <a:ext cx="7767720" cy="312480"/>
            <a:chOff x="838080" y="374760"/>
            <a:chExt cx="7767720" cy="312480"/>
          </a:xfrm>
        </p:grpSpPr>
        <p:sp>
          <p:nvSpPr>
            <p:cNvPr id="14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604360" y="374760"/>
              <a:ext cx="1440" cy="312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